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d-ID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d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48AE3B-1D0C-49A6-88D7-97E76D9F6B21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8C76A-7491-4F31-BBA4-3D2A6C9F6EE2}" type="slidenum">
              <a:rPr b="0" lang="id-ID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0F5C-12BD-474E-941B-BBF89D38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81D8-BF00-4101-BE9B-71279DCE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BCF0-BAB7-4473-8463-7205F297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281C-3638-44D6-9380-84CE49DD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85CE-D20A-4C98-B146-190A3FBC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B8F6-7BE1-4E22-BE6C-3B6203D6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B567-159F-46C4-B1E0-580569B8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F343-F0E3-45B4-8F82-BECB3B4F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41F7-2392-4288-8B43-4216AE9D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452E-1B24-43C2-8B2D-3C9B7818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70B4-165F-4BBA-9CA4-F76AE832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3AD4-D1AB-4288-BB83-AC35C0E1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5635-FE71-4D31-B9ED-3061D0ED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E01F-0E78-4AA4-A38E-E14F06D1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5381-5DEE-4AB6-89B7-E30CAA06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F455-DEE7-4B33-82B3-29F13BE5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E21D-44D8-498C-9D90-163FAED6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4ACEF-6CB5-4574-BAE2-B90C55A2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AD1AB-CA2C-48A8-9BDB-1D2FB5DA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0D33D-9681-4CF9-B227-ED940852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949A1-1621-47D0-82EF-E9885DDE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8A155-1925-4331-BBA1-4CD9B103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D9F0-62FB-4328-A909-7C853A20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B8371-8E10-4628-BE45-E8E36879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EF684-40D8-47A4-9FB0-A3C2B995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17E31-C383-4813-A141-686F8D6A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4DDC0-DD67-4646-8954-320DFAE2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9A2CC-7741-460A-9A26-7E54E312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2A77D-7055-476B-8FD6-F69BAB99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5FB81-17BB-4762-9DD3-FE151D38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6DCEE-94BF-44CF-87B8-12493D33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3DC4E-206E-426E-8C87-39E5B71A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8C8CA-25F0-42C2-819F-C075585A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BCEA-7CBA-48D0-A36E-0CC8B25A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C88BD-1D27-4A87-B22C-2FC1C0A0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7FD8B-9722-4F6B-92A8-055E5C4E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355AD-E298-41AE-BF64-75D51810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8F4A3-84C2-4855-B97F-D9100FB4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5A0B3-F620-4BC3-8C94-DA8DBEC5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C9D8B-A91A-4C99-8864-5AACF15D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CB819-4FAB-4A6D-A919-9566E30E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6A22C-1C85-454A-A4EF-985C8BE2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6CDD6-569E-486A-A813-CBF8F750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CFB6-C1AA-4B68-8BC9-3FFBC1D7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2098-6EE9-4A37-ADBA-73D80B69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A9C0-AD0A-4E62-BF2E-8E566B7D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1BCB-C853-4A75-80C5-6D53A4E5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60EE-871D-431C-9E59-468B73B3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0EF49F-A5EF-451E-A7CF-C71E98234DFB}" type="slidenum">
              <a:rPr b="0" lang="es-ES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4DF7B-C19E-4A6D-B63F-E8E8A76542B4}" type="slidenum">
              <a:rPr b="0" lang="es-ES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A9C799-BD00-450C-92A2-DD37DDBB54C9}" type="slidenum">
              <a:rPr b="0" lang="es-ES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8D0D1B-27F9-4221-B95B-BC304FC5E0AA}" type="slidenum">
              <a:rPr b="0" lang="es-ES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95200" y="285840"/>
            <a:ext cx="8501040" cy="166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ENERAPAN DATA MINING UNTUK KLASIFIKASI </a:t>
            </a:r>
            <a:br>
              <a:rPr sz="2400"/>
            </a:b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STATUS EKONOMI MASYARAKAT</a:t>
            </a:r>
            <a:br>
              <a:rPr sz="2400"/>
            </a:b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MENGGGUNAKAN METODE </a:t>
            </a:r>
            <a:br>
              <a:rPr sz="2400"/>
            </a:b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K-NEAREST NEIGHBOAR</a:t>
            </a:r>
            <a:endParaRPr b="0" lang="en-US" sz="24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0" name="Rectangle 165"/>
          <p:cNvSpPr/>
          <p:nvPr/>
        </p:nvSpPr>
        <p:spPr>
          <a:xfrm>
            <a:off x="250920" y="5143680"/>
            <a:ext cx="4964040" cy="14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N</a:t>
            </a:r>
            <a:r>
              <a:rPr b="1" lang="id-ID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AMA</a:t>
            </a:r>
            <a:r>
              <a:rPr b="1" lang="id-ID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1" lang="id-ID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ZAMALUDIN ARSYA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NIM</a:t>
            </a:r>
            <a:r>
              <a:rPr b="1" lang="id-ID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1" lang="id-ID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: T31 13 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92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3348000" y="2422440"/>
            <a:ext cx="2395440" cy="2244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d-ID" sz="3600" spc="-1" strike="noStrike">
                <a:solidFill>
                  <a:srgbClr val="000000"/>
                </a:solidFill>
                <a:latin typeface="Trebuchet MS"/>
              </a:rPr>
              <a:t>KERANGKA PEMIKIRAN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3" name="Rectangle 28"/>
          <p:cNvSpPr/>
          <p:nvPr/>
        </p:nvSpPr>
        <p:spPr>
          <a:xfrm>
            <a:off x="5760" y="-39240"/>
            <a:ext cx="10188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71640"/>
                <a:tab algn="l" pos="3209760"/>
                <a:tab algn="l" pos="402912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v-S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71640"/>
                <a:tab algn="l" pos="3209760"/>
                <a:tab algn="l" pos="402912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Rectangle 31"/>
          <p:cNvSpPr/>
          <p:nvPr/>
        </p:nvSpPr>
        <p:spPr>
          <a:xfrm>
            <a:off x="4391280" y="2278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71640"/>
                <a:tab algn="l" pos="3209760"/>
                <a:tab algn="l" pos="402912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71640"/>
                <a:tab algn="l" pos="3209760"/>
                <a:tab algn="l" pos="402912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Rectangle 35"/>
          <p:cNvSpPr/>
          <p:nvPr/>
        </p:nvSpPr>
        <p:spPr>
          <a:xfrm>
            <a:off x="3487680" y="700200"/>
            <a:ext cx="2168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2720"/>
                <a:tab algn="l" pos="19875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2720"/>
                <a:tab algn="l" pos="19875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Rectangle 36"/>
          <p:cNvSpPr/>
          <p:nvPr/>
        </p:nvSpPr>
        <p:spPr>
          <a:xfrm>
            <a:off x="3610080" y="700200"/>
            <a:ext cx="1923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431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431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Rectangle 40"/>
          <p:cNvSpPr/>
          <p:nvPr/>
        </p:nvSpPr>
        <p:spPr>
          <a:xfrm>
            <a:off x="4481640" y="6850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Rectangle 42"/>
          <p:cNvSpPr/>
          <p:nvPr/>
        </p:nvSpPr>
        <p:spPr>
          <a:xfrm>
            <a:off x="3524400" y="616680"/>
            <a:ext cx="2095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14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14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14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Rectangle 44"/>
          <p:cNvSpPr/>
          <p:nvPr/>
        </p:nvSpPr>
        <p:spPr>
          <a:xfrm>
            <a:off x="4253040" y="616680"/>
            <a:ext cx="63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240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240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240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Rectangle 47"/>
          <p:cNvSpPr/>
          <p:nvPr/>
        </p:nvSpPr>
        <p:spPr>
          <a:xfrm>
            <a:off x="2862360" y="616680"/>
            <a:ext cx="3419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385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385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385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Rectangle 49"/>
          <p:cNvSpPr/>
          <p:nvPr/>
        </p:nvSpPr>
        <p:spPr>
          <a:xfrm>
            <a:off x="4481640" y="6850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Rectangle 51"/>
          <p:cNvSpPr/>
          <p:nvPr/>
        </p:nvSpPr>
        <p:spPr>
          <a:xfrm>
            <a:off x="4194360" y="563400"/>
            <a:ext cx="755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0" y="1071720"/>
            <a:ext cx="3571920" cy="12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buClr>
                <a:srgbClr val="000000"/>
              </a:buClr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  <a:ea typeface="Calibri"/>
              </a:rPr>
              <a:t>Bagaimana cara merekayasa data mining untuk mengklasifikasi status ekonomi masyarakat menggunakan metode K-NN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Calibri"/>
              </a:rPr>
              <a:t> ?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buClr>
                <a:srgbClr val="000000"/>
              </a:buClr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  <a:ea typeface="Calibri"/>
              </a:rPr>
              <a:t>Bagaimana hasil penerapan 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Calibri"/>
              </a:rPr>
              <a:t>metode K-NN dalam mengklasifikasi status perkonomian masyarakat?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Rectangle 322"/>
          <p:cNvSpPr/>
          <p:nvPr/>
        </p:nvSpPr>
        <p:spPr>
          <a:xfrm>
            <a:off x="6286680" y="857160"/>
            <a:ext cx="1863720" cy="34632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Calibri"/>
                <a:ea typeface="Calibri"/>
              </a:rPr>
              <a:t>Peluang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Rectangle 326"/>
          <p:cNvSpPr/>
          <p:nvPr/>
        </p:nvSpPr>
        <p:spPr>
          <a:xfrm>
            <a:off x="6280200" y="1143000"/>
            <a:ext cx="1863720" cy="7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Kebutuhan akan klasifikasi status ekonomi masyarakat di kantor kecamatan kota tengah kota Gorontal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Rectangle 45"/>
          <p:cNvSpPr/>
          <p:nvPr/>
        </p:nvSpPr>
        <p:spPr>
          <a:xfrm>
            <a:off x="3105000" y="3170160"/>
            <a:ext cx="2538720" cy="68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A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.Sistem berjala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A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.Sistem yang diusulka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Rectangle 41"/>
          <p:cNvSpPr/>
          <p:nvPr/>
        </p:nvSpPr>
        <p:spPr>
          <a:xfrm>
            <a:off x="6615000" y="5143680"/>
            <a:ext cx="17431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716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Box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716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Box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716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SE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Rectangle 33"/>
          <p:cNvSpPr/>
          <p:nvPr/>
        </p:nvSpPr>
        <p:spPr>
          <a:xfrm>
            <a:off x="6362640" y="3948120"/>
            <a:ext cx="1781280" cy="48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A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.PHP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A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0" i="1" lang="en-A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MySQL server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Rectangle 32"/>
          <p:cNvSpPr/>
          <p:nvPr/>
        </p:nvSpPr>
        <p:spPr>
          <a:xfrm>
            <a:off x="3156120" y="4572000"/>
            <a:ext cx="2987640" cy="28584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Calibri"/>
                <a:ea typeface="Calibri"/>
              </a:rPr>
              <a:t>Implementasi Sistem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Rectangle 31"/>
          <p:cNvSpPr/>
          <p:nvPr/>
        </p:nvSpPr>
        <p:spPr>
          <a:xfrm>
            <a:off x="3143160" y="4857840"/>
            <a:ext cx="300060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Kantor Kecamatan Kota Tengah Kota Gorontalo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Rectangle 46"/>
          <p:cNvSpPr/>
          <p:nvPr/>
        </p:nvSpPr>
        <p:spPr>
          <a:xfrm>
            <a:off x="3143160" y="2879640"/>
            <a:ext cx="2476440" cy="29052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Calibri"/>
                <a:ea typeface="Calibri"/>
              </a:rPr>
              <a:t>Analisis Sistem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Rectangle 27"/>
          <p:cNvSpPr/>
          <p:nvPr/>
        </p:nvSpPr>
        <p:spPr>
          <a:xfrm>
            <a:off x="115920" y="5572080"/>
            <a:ext cx="4886280" cy="32076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Calibri"/>
                <a:ea typeface="Calibri"/>
              </a:rPr>
              <a:t>Tujuan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Rectangle 28"/>
          <p:cNvSpPr/>
          <p:nvPr/>
        </p:nvSpPr>
        <p:spPr>
          <a:xfrm>
            <a:off x="69840" y="5786280"/>
            <a:ext cx="5073840" cy="85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Untuk mengetahui status ekonomi masyarakat menggunakan metode K-NN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Untuk mengetahui hasil penerapan metode K-NN dala mengklasifikasi perekonomian masyarakat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Text Box 194"/>
          <p:cNvSpPr/>
          <p:nvPr/>
        </p:nvSpPr>
        <p:spPr>
          <a:xfrm>
            <a:off x="790560" y="4071960"/>
            <a:ext cx="2067120" cy="12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in Model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in User Interface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lvl="1" marL="4478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in Output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lvl="1" marL="4478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in Input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lvl="1" marL="447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Desain Menu Utama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in Database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in Teknologi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Rectangle 77"/>
          <p:cNvSpPr/>
          <p:nvPr/>
        </p:nvSpPr>
        <p:spPr>
          <a:xfrm>
            <a:off x="6215040" y="2428920"/>
            <a:ext cx="204624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Penerapan data mining untuk klasifikasi status ekonomi masyarakat menggunakan metode K-NN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Rectangle 78"/>
          <p:cNvSpPr/>
          <p:nvPr/>
        </p:nvSpPr>
        <p:spPr>
          <a:xfrm>
            <a:off x="6243480" y="2214720"/>
            <a:ext cx="1971720" cy="21420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Calibri"/>
                <a:ea typeface="Calibri"/>
              </a:rPr>
              <a:t>Solusi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Rectangle 86"/>
          <p:cNvSpPr/>
          <p:nvPr/>
        </p:nvSpPr>
        <p:spPr>
          <a:xfrm>
            <a:off x="4391280" y="6850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71640"/>
                <a:tab algn="l" pos="3209760"/>
                <a:tab algn="l" pos="402912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71640"/>
                <a:tab algn="l" pos="3209760"/>
                <a:tab algn="l" pos="402912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Rectangle 90"/>
          <p:cNvSpPr/>
          <p:nvPr/>
        </p:nvSpPr>
        <p:spPr>
          <a:xfrm>
            <a:off x="3487680" y="1157400"/>
            <a:ext cx="2168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2720"/>
                <a:tab algn="l" pos="19875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2720"/>
                <a:tab algn="l" pos="19875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Rectangle 91"/>
          <p:cNvSpPr/>
          <p:nvPr/>
        </p:nvSpPr>
        <p:spPr>
          <a:xfrm>
            <a:off x="3610080" y="1157400"/>
            <a:ext cx="1923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431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431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Rectangle 95"/>
          <p:cNvSpPr/>
          <p:nvPr/>
        </p:nvSpPr>
        <p:spPr>
          <a:xfrm>
            <a:off x="4481640" y="11422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Rectangle 97"/>
          <p:cNvSpPr/>
          <p:nvPr/>
        </p:nvSpPr>
        <p:spPr>
          <a:xfrm>
            <a:off x="3524400" y="1073880"/>
            <a:ext cx="2095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14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14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14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Rectangle 99"/>
          <p:cNvSpPr/>
          <p:nvPr/>
        </p:nvSpPr>
        <p:spPr>
          <a:xfrm>
            <a:off x="4253040" y="1073880"/>
            <a:ext cx="63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240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240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240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Rectangle 102"/>
          <p:cNvSpPr/>
          <p:nvPr/>
        </p:nvSpPr>
        <p:spPr>
          <a:xfrm>
            <a:off x="2862360" y="1073880"/>
            <a:ext cx="3419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385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385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385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Rectangle 104"/>
          <p:cNvSpPr/>
          <p:nvPr/>
        </p:nvSpPr>
        <p:spPr>
          <a:xfrm>
            <a:off x="4481640" y="11422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Rectangle 106"/>
          <p:cNvSpPr/>
          <p:nvPr/>
        </p:nvSpPr>
        <p:spPr>
          <a:xfrm>
            <a:off x="4194360" y="1020600"/>
            <a:ext cx="755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Rectangle 322"/>
          <p:cNvSpPr/>
          <p:nvPr/>
        </p:nvSpPr>
        <p:spPr>
          <a:xfrm>
            <a:off x="861840" y="3786120"/>
            <a:ext cx="1863720" cy="28584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Calibri"/>
              </a:rPr>
              <a:t>Desain Sistem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Rectangle 322"/>
          <p:cNvSpPr/>
          <p:nvPr/>
        </p:nvSpPr>
        <p:spPr>
          <a:xfrm>
            <a:off x="642960" y="714240"/>
            <a:ext cx="1863720" cy="34632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Calibri"/>
              </a:rPr>
              <a:t>Masalah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Rectangle 322"/>
          <p:cNvSpPr/>
          <p:nvPr/>
        </p:nvSpPr>
        <p:spPr>
          <a:xfrm>
            <a:off x="6643800" y="4857840"/>
            <a:ext cx="1714320" cy="28584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Calibri"/>
                <a:ea typeface="Calibri"/>
              </a:rPr>
              <a:t>Pengujian Sistem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Rectangle 322"/>
          <p:cNvSpPr/>
          <p:nvPr/>
        </p:nvSpPr>
        <p:spPr>
          <a:xfrm>
            <a:off x="6351480" y="3583080"/>
            <a:ext cx="1863720" cy="345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Calibri"/>
                <a:ea typeface="Calibri"/>
              </a:rPr>
              <a:t>Pembangunan Si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1" lang="id-ID" sz="1000" spc="-1" strike="noStrike">
                <a:solidFill>
                  <a:srgbClr val="000000"/>
                </a:solidFill>
                <a:latin typeface="Calibri"/>
                <a:ea typeface="Calibri"/>
              </a:rPr>
              <a:t>tem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Straight Connector 133"/>
          <p:cNvSpPr/>
          <p:nvPr/>
        </p:nvSpPr>
        <p:spPr>
          <a:xfrm>
            <a:off x="1785960" y="2286000"/>
            <a:ext cx="0" cy="2858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61" name="Straight Arrow Connector 135"/>
          <p:cNvCxnSpPr/>
          <p:nvPr/>
        </p:nvCxnSpPr>
        <p:spPr>
          <a:xfrm>
            <a:off x="1785600" y="2571840"/>
            <a:ext cx="4358520" cy="216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2" name="Straight Arrow Connector 139"/>
          <p:cNvCxnSpPr>
            <a:stCxn id="235" idx="2"/>
            <a:endCxn id="246" idx="0"/>
          </p:cNvCxnSpPr>
          <p:nvPr/>
        </p:nvCxnSpPr>
        <p:spPr>
          <a:xfrm>
            <a:off x="7210800" y="1925280"/>
            <a:ext cx="18360" cy="28944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3" name="Straight Connector 150"/>
          <p:cNvSpPr/>
          <p:nvPr/>
        </p:nvSpPr>
        <p:spPr>
          <a:xfrm flipH="1" flipV="1">
            <a:off x="5929200" y="2786040"/>
            <a:ext cx="285840" cy="1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Straight Connector 152"/>
          <p:cNvSpPr/>
          <p:nvPr/>
        </p:nvSpPr>
        <p:spPr>
          <a:xfrm flipH="1">
            <a:off x="5928840" y="2786040"/>
            <a:ext cx="1800" cy="714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65" name="Straight Arrow Connector 154"/>
          <p:cNvCxnSpPr/>
          <p:nvPr/>
        </p:nvCxnSpPr>
        <p:spPr>
          <a:xfrm flipH="1">
            <a:off x="5643000" y="3500280"/>
            <a:ext cx="286200" cy="1512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6" name="Straight Connector 158"/>
          <p:cNvSpPr/>
          <p:nvPr/>
        </p:nvSpPr>
        <p:spPr>
          <a:xfrm flipH="1" flipV="1">
            <a:off x="1785960" y="3500280"/>
            <a:ext cx="1319040" cy="144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67" name="Straight Arrow Connector 165"/>
          <p:cNvCxnSpPr>
            <a:endCxn id="256" idx="0"/>
          </p:cNvCxnSpPr>
          <p:nvPr/>
        </p:nvCxnSpPr>
        <p:spPr>
          <a:xfrm>
            <a:off x="1785960" y="3500280"/>
            <a:ext cx="8640" cy="28656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8" name="Straight Arrow Connector 169"/>
          <p:cNvCxnSpPr/>
          <p:nvPr/>
        </p:nvCxnSpPr>
        <p:spPr>
          <a:xfrm>
            <a:off x="2857320" y="4285800"/>
            <a:ext cx="3429720" cy="252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9" name="Straight Arrow Connector 171"/>
          <p:cNvCxnSpPr>
            <a:stCxn id="238" idx="2"/>
          </p:cNvCxnSpPr>
          <p:nvPr/>
        </p:nvCxnSpPr>
        <p:spPr>
          <a:xfrm flipH="1">
            <a:off x="7247880" y="4428720"/>
            <a:ext cx="5400" cy="42948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0" name="Straight Connector 174"/>
          <p:cNvSpPr/>
          <p:nvPr/>
        </p:nvSpPr>
        <p:spPr>
          <a:xfrm flipH="1" flipV="1">
            <a:off x="6429240" y="5428800"/>
            <a:ext cx="214560" cy="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Straight Connector 175"/>
          <p:cNvSpPr/>
          <p:nvPr/>
        </p:nvSpPr>
        <p:spPr>
          <a:xfrm flipH="1">
            <a:off x="6427800" y="5002200"/>
            <a:ext cx="1440" cy="428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72" name="Straight Arrow Connector 177"/>
          <p:cNvCxnSpPr/>
          <p:nvPr/>
        </p:nvCxnSpPr>
        <p:spPr>
          <a:xfrm flipH="1">
            <a:off x="6143040" y="4999680"/>
            <a:ext cx="286200" cy="1476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3" name="Straight Arrow Connector 179"/>
          <p:cNvCxnSpPr/>
          <p:nvPr/>
        </p:nvCxnSpPr>
        <p:spPr>
          <a:xfrm flipH="1">
            <a:off x="4355280" y="5214600"/>
            <a:ext cx="2520" cy="35964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ERANCANGAN SISTEM USULAN</a:t>
            </a:r>
            <a:endParaRPr b="0" lang="en-US" sz="32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75" name="AutoShape 135"/>
          <p:cNvSpPr/>
          <p:nvPr/>
        </p:nvSpPr>
        <p:spPr>
          <a:xfrm>
            <a:off x="1592280" y="1000080"/>
            <a:ext cx="1152360" cy="349200"/>
          </a:xfrm>
          <a:prstGeom prst="flowChartManualIn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aset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AutoShape 134"/>
          <p:cNvSpPr/>
          <p:nvPr/>
        </p:nvSpPr>
        <p:spPr>
          <a:xfrm>
            <a:off x="2963880" y="1012680"/>
            <a:ext cx="1057320" cy="416160"/>
          </a:xfrm>
          <a:prstGeom prst="flowChartManualIn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Nilai K dan Validasi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AutoShape 133"/>
          <p:cNvSpPr/>
          <p:nvPr/>
        </p:nvSpPr>
        <p:spPr>
          <a:xfrm>
            <a:off x="6348240" y="803160"/>
            <a:ext cx="868680" cy="482760"/>
          </a:xfrm>
          <a:prstGeom prst="flowChartManualIn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 user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AutoShape 132"/>
          <p:cNvSpPr/>
          <p:nvPr/>
        </p:nvSpPr>
        <p:spPr>
          <a:xfrm>
            <a:off x="1625760" y="1579680"/>
            <a:ext cx="961920" cy="4921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es Rekam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AutoShape 131"/>
          <p:cNvSpPr/>
          <p:nvPr/>
        </p:nvSpPr>
        <p:spPr>
          <a:xfrm>
            <a:off x="2990880" y="1579680"/>
            <a:ext cx="955800" cy="4921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es Rekam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AutoShape 130"/>
          <p:cNvSpPr/>
          <p:nvPr/>
        </p:nvSpPr>
        <p:spPr>
          <a:xfrm>
            <a:off x="6348240" y="1579680"/>
            <a:ext cx="887760" cy="4921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es Rekam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AutoShape 129"/>
          <p:cNvSpPr/>
          <p:nvPr/>
        </p:nvSpPr>
        <p:spPr>
          <a:xfrm>
            <a:off x="1625760" y="2306520"/>
            <a:ext cx="938160" cy="43812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aset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AutoShape 128"/>
          <p:cNvSpPr/>
          <p:nvPr/>
        </p:nvSpPr>
        <p:spPr>
          <a:xfrm>
            <a:off x="2997360" y="2297160"/>
            <a:ext cx="888840" cy="43812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lai K, V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AutoShape 127"/>
          <p:cNvSpPr/>
          <p:nvPr/>
        </p:nvSpPr>
        <p:spPr>
          <a:xfrm>
            <a:off x="6332400" y="2325600"/>
            <a:ext cx="868680" cy="43812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AutoShape 126"/>
          <p:cNvSpPr/>
          <p:nvPr/>
        </p:nvSpPr>
        <p:spPr>
          <a:xfrm>
            <a:off x="4316400" y="5500800"/>
            <a:ext cx="1014480" cy="245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il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iksi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AutoShape 125"/>
          <p:cNvSpPr/>
          <p:nvPr/>
        </p:nvSpPr>
        <p:spPr>
          <a:xfrm>
            <a:off x="4108320" y="6086520"/>
            <a:ext cx="1400400" cy="771480"/>
          </a:xfrm>
          <a:prstGeom prst="flowChartDisplay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ampilkan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set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lai Akurasi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iksi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User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86" name="AutoShape 124"/>
          <p:cNvCxnSpPr/>
          <p:nvPr/>
        </p:nvCxnSpPr>
        <p:spPr>
          <a:xfrm>
            <a:off x="2169720" y="1371600"/>
            <a:ext cx="10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AutoShape 123"/>
          <p:cNvCxnSpPr/>
          <p:nvPr/>
        </p:nvCxnSpPr>
        <p:spPr>
          <a:xfrm>
            <a:off x="3520800" y="1425600"/>
            <a:ext cx="1080" cy="17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AutoShape 122"/>
          <p:cNvCxnSpPr/>
          <p:nvPr/>
        </p:nvCxnSpPr>
        <p:spPr>
          <a:xfrm>
            <a:off x="6781320" y="1360440"/>
            <a:ext cx="10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AutoShape 121"/>
          <p:cNvCxnSpPr/>
          <p:nvPr/>
        </p:nvCxnSpPr>
        <p:spPr>
          <a:xfrm>
            <a:off x="2150640" y="2073240"/>
            <a:ext cx="10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120"/>
          <p:cNvCxnSpPr/>
          <p:nvPr/>
        </p:nvCxnSpPr>
        <p:spPr>
          <a:xfrm>
            <a:off x="3493800" y="2082600"/>
            <a:ext cx="1080" cy="20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AutoShape 119"/>
          <p:cNvCxnSpPr/>
          <p:nvPr/>
        </p:nvCxnSpPr>
        <p:spPr>
          <a:xfrm>
            <a:off x="6779880" y="208260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" name="AutoShape 118"/>
          <p:cNvCxnSpPr/>
          <p:nvPr/>
        </p:nvCxnSpPr>
        <p:spPr>
          <a:xfrm>
            <a:off x="2179800" y="2754360"/>
            <a:ext cx="791280" cy="535680"/>
          </a:xfrm>
          <a:prstGeom prst="bentConnector3">
            <a:avLst>
              <a:gd name="adj1" fmla="val 499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117"/>
          <p:cNvCxnSpPr/>
          <p:nvPr/>
        </p:nvCxnSpPr>
        <p:spPr>
          <a:xfrm>
            <a:off x="4827240" y="5786280"/>
            <a:ext cx="10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AutoShape 116"/>
          <p:cNvSpPr/>
          <p:nvPr/>
        </p:nvSpPr>
        <p:spPr>
          <a:xfrm>
            <a:off x="2962440" y="3021120"/>
            <a:ext cx="923760" cy="549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es </a:t>
            </a:r>
            <a:r>
              <a:rPr b="0" lang="id-ID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gi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TS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95" name="AutoShape 115"/>
          <p:cNvCxnSpPr/>
          <p:nvPr/>
        </p:nvCxnSpPr>
        <p:spPr>
          <a:xfrm>
            <a:off x="3493800" y="275400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" name="AutoShape 114"/>
          <p:cNvSpPr/>
          <p:nvPr/>
        </p:nvSpPr>
        <p:spPr>
          <a:xfrm>
            <a:off x="4125960" y="971640"/>
            <a:ext cx="974520" cy="457200"/>
          </a:xfrm>
          <a:prstGeom prst="flowChartManualIn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Data Tr, Ts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97" name="AutoShape 113"/>
          <p:cNvCxnSpPr/>
          <p:nvPr/>
        </p:nvCxnSpPr>
        <p:spPr>
          <a:xfrm>
            <a:off x="4592160" y="1452600"/>
            <a:ext cx="1080" cy="17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AutoShape 112"/>
          <p:cNvSpPr/>
          <p:nvPr/>
        </p:nvSpPr>
        <p:spPr>
          <a:xfrm>
            <a:off x="4106880" y="1603440"/>
            <a:ext cx="993600" cy="4921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es Rekam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AutoShape 110"/>
          <p:cNvSpPr/>
          <p:nvPr/>
        </p:nvSpPr>
        <p:spPr>
          <a:xfrm>
            <a:off x="5249880" y="900000"/>
            <a:ext cx="974880" cy="457200"/>
          </a:xfrm>
          <a:prstGeom prst="flowChartManualIn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Data Baru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AutoShape 109"/>
          <p:cNvSpPr/>
          <p:nvPr/>
        </p:nvSpPr>
        <p:spPr>
          <a:xfrm>
            <a:off x="5214960" y="1579680"/>
            <a:ext cx="955800" cy="4921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es Rekam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01" name="AutoShape 108"/>
          <p:cNvCxnSpPr/>
          <p:nvPr/>
        </p:nvCxnSpPr>
        <p:spPr>
          <a:xfrm>
            <a:off x="5724000" y="1371600"/>
            <a:ext cx="10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AutoShape 107"/>
          <p:cNvSpPr/>
          <p:nvPr/>
        </p:nvSpPr>
        <p:spPr>
          <a:xfrm>
            <a:off x="4248000" y="2297160"/>
            <a:ext cx="905040" cy="43812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r, Ts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AutoShape 106"/>
          <p:cNvSpPr/>
          <p:nvPr/>
        </p:nvSpPr>
        <p:spPr>
          <a:xfrm>
            <a:off x="5294160" y="2306520"/>
            <a:ext cx="905040" cy="43812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Baru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04" name="AutoShape 105"/>
          <p:cNvCxnSpPr/>
          <p:nvPr/>
        </p:nvCxnSpPr>
        <p:spPr>
          <a:xfrm>
            <a:off x="5724000" y="208260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5" name="AutoShape 104"/>
          <p:cNvSpPr/>
          <p:nvPr/>
        </p:nvSpPr>
        <p:spPr>
          <a:xfrm>
            <a:off x="4248000" y="2954160"/>
            <a:ext cx="1057320" cy="549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es </a:t>
            </a:r>
            <a:r>
              <a:rPr b="0" lang="id-ID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i model knn &amp; Akurasi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AutoShape 103"/>
          <p:cNvSpPr/>
          <p:nvPr/>
        </p:nvSpPr>
        <p:spPr>
          <a:xfrm>
            <a:off x="4334040" y="4284720"/>
            <a:ext cx="973080" cy="4525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 knn terbaik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07" name="AutoShape 102"/>
          <p:cNvCxnSpPr/>
          <p:nvPr/>
        </p:nvCxnSpPr>
        <p:spPr>
          <a:xfrm>
            <a:off x="4762080" y="349560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8" name="AutoShape 101"/>
          <p:cNvCxnSpPr/>
          <p:nvPr/>
        </p:nvCxnSpPr>
        <p:spPr>
          <a:xfrm>
            <a:off x="4762080" y="2715840"/>
            <a:ext cx="108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AutoShape 100"/>
          <p:cNvCxnSpPr/>
          <p:nvPr/>
        </p:nvCxnSpPr>
        <p:spPr>
          <a:xfrm>
            <a:off x="4789080" y="411480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99"/>
          <p:cNvCxnSpPr/>
          <p:nvPr/>
        </p:nvCxnSpPr>
        <p:spPr>
          <a:xfrm flipH="1">
            <a:off x="5723640" y="2773080"/>
            <a:ext cx="2520" cy="1716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AutoShape 98"/>
          <p:cNvCxnSpPr/>
          <p:nvPr/>
        </p:nvCxnSpPr>
        <p:spPr>
          <a:xfrm flipH="1">
            <a:off x="5330160" y="4514400"/>
            <a:ext cx="394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AutoShape 97"/>
          <p:cNvCxnSpPr/>
          <p:nvPr/>
        </p:nvCxnSpPr>
        <p:spPr>
          <a:xfrm>
            <a:off x="6780240" y="2773440"/>
            <a:ext cx="2160" cy="3829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AutoShape 96"/>
          <p:cNvCxnSpPr/>
          <p:nvPr/>
        </p:nvCxnSpPr>
        <p:spPr>
          <a:xfrm flipH="1">
            <a:off x="5533560" y="6643440"/>
            <a:ext cx="1248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4" name="AutoShape 95"/>
          <p:cNvCxnSpPr/>
          <p:nvPr/>
        </p:nvCxnSpPr>
        <p:spPr>
          <a:xfrm>
            <a:off x="2828520" y="905040"/>
            <a:ext cx="1080" cy="1667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5" name="AutoShape 94"/>
          <p:cNvCxnSpPr/>
          <p:nvPr/>
        </p:nvCxnSpPr>
        <p:spPr>
          <a:xfrm flipV="1">
            <a:off x="2828520" y="2537640"/>
            <a:ext cx="1080" cy="562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6" name="AutoShape 93"/>
          <p:cNvCxnSpPr/>
          <p:nvPr/>
        </p:nvCxnSpPr>
        <p:spPr>
          <a:xfrm flipV="1">
            <a:off x="2828520" y="883800"/>
            <a:ext cx="1715400" cy="45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7" name="AutoShape 92"/>
          <p:cNvCxnSpPr/>
          <p:nvPr/>
        </p:nvCxnSpPr>
        <p:spPr>
          <a:xfrm>
            <a:off x="4520880" y="901800"/>
            <a:ext cx="1080" cy="17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AutoShape 91"/>
          <p:cNvCxnSpPr/>
          <p:nvPr/>
        </p:nvCxnSpPr>
        <p:spPr>
          <a:xfrm>
            <a:off x="3743280" y="2495160"/>
            <a:ext cx="286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" name="AutoShape 90"/>
          <p:cNvCxnSpPr/>
          <p:nvPr/>
        </p:nvCxnSpPr>
        <p:spPr>
          <a:xfrm>
            <a:off x="4028760" y="2495520"/>
            <a:ext cx="108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AutoShape 89"/>
          <p:cNvCxnSpPr/>
          <p:nvPr/>
        </p:nvCxnSpPr>
        <p:spPr>
          <a:xfrm>
            <a:off x="4041720" y="3228480"/>
            <a:ext cx="180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AutoShape 88"/>
          <p:cNvCxnSpPr/>
          <p:nvPr/>
        </p:nvCxnSpPr>
        <p:spPr>
          <a:xfrm>
            <a:off x="2828520" y="3099960"/>
            <a:ext cx="14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22" name="AutoShape 87"/>
          <p:cNvSpPr/>
          <p:nvPr/>
        </p:nvSpPr>
        <p:spPr>
          <a:xfrm>
            <a:off x="4325760" y="3657600"/>
            <a:ext cx="1082880" cy="43812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 Terbaik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AutoShape 86"/>
          <p:cNvSpPr/>
          <p:nvPr/>
        </p:nvSpPr>
        <p:spPr>
          <a:xfrm>
            <a:off x="4354560" y="4957920"/>
            <a:ext cx="973080" cy="3999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es Prediksi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24" name="AutoShape 85"/>
          <p:cNvCxnSpPr/>
          <p:nvPr/>
        </p:nvCxnSpPr>
        <p:spPr>
          <a:xfrm>
            <a:off x="4819320" y="533880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AutoShape 84"/>
          <p:cNvCxnSpPr/>
          <p:nvPr/>
        </p:nvCxnSpPr>
        <p:spPr>
          <a:xfrm>
            <a:off x="4781160" y="474192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AutoShape 83"/>
          <p:cNvCxnSpPr/>
          <p:nvPr/>
        </p:nvCxnSpPr>
        <p:spPr>
          <a:xfrm>
            <a:off x="1913040" y="2774520"/>
            <a:ext cx="2160" cy="379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AutoShape 82"/>
          <p:cNvCxnSpPr/>
          <p:nvPr/>
        </p:nvCxnSpPr>
        <p:spPr>
          <a:xfrm>
            <a:off x="1914480" y="6616440"/>
            <a:ext cx="2193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8" name="Rectangle 1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Rectangle 159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30" name="AutoShape 113"/>
          <p:cNvCxnSpPr/>
          <p:nvPr/>
        </p:nvCxnSpPr>
        <p:spPr>
          <a:xfrm>
            <a:off x="4663800" y="2095560"/>
            <a:ext cx="1080" cy="17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Trebuchet MS"/>
              </a:rPr>
              <a:t>PENGUJIAN WHITE BOX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71280" y="1571760"/>
          <a:ext cx="3533760" cy="39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1571760"/>
                    <a:ext cx="3533760" cy="39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Rectangle 5"/>
          <p:cNvSpPr/>
          <p:nvPr/>
        </p:nvSpPr>
        <p:spPr>
          <a:xfrm>
            <a:off x="3000240" y="1214280"/>
            <a:ext cx="6000840" cy="542952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Menghitung Nilai </a:t>
            </a:r>
            <a:r>
              <a:rPr b="0" i="1" lang="id-ID" sz="1400" spc="-1" strike="noStrike">
                <a:solidFill>
                  <a:srgbClr val="000000"/>
                </a:solidFill>
                <a:latin typeface="Trebuchet MS"/>
              </a:rPr>
              <a:t>Cyclomatic Complexity</a:t>
            </a: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 (CC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Dimana :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Region(R) </a:t>
            </a: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=  4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Node(N)</a:t>
            </a: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=  7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Edge(E)</a:t>
            </a: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=  9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Predicate Node(P)   =  3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V(G)</a:t>
            </a: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=  E – N + 2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=  9 – 7 + 2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=  4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V(G)</a:t>
            </a: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=  P + 1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=  3 + 1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=  4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Cc</a:t>
            </a: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= R1 + R2 +R3 + R4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= 4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1 </a:t>
            </a: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, 2 ,3,  4, 5, 6, 7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1 </a:t>
            </a: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, 2 ,1, 2, 3,  4, 5, 6, 7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1 </a:t>
            </a: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, 2 ,3,  4, 3,  4, 5, 6, 7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1 </a:t>
            </a: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, 2 ,3,  4, 5, 4, 5, 6, 7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Ketika aplikasi dijalankan, maka terlihat bahwa semua basis path yang dihasilkan telah dieksekusi satu kali. Berdasarkan ketentuan tersebut dari segi kelayakan </a:t>
            </a:r>
            <a:r>
              <a:rPr b="0" i="1" lang="id-ID" sz="1400" spc="-1" strike="noStrike">
                <a:solidFill>
                  <a:srgbClr val="000000"/>
                </a:solidFill>
                <a:latin typeface="Trebuchet MS"/>
              </a:rPr>
              <a:t>software</a:t>
            </a:r>
            <a:r>
              <a:rPr b="0" lang="id-ID" sz="1400" spc="-1" strike="noStrike">
                <a:solidFill>
                  <a:srgbClr val="000000"/>
                </a:solidFill>
                <a:latin typeface="Trebuchet MS"/>
              </a:rPr>
              <a:t>, sistem ini telah memenuhi syarat</a:t>
            </a:r>
            <a:r>
              <a:rPr b="0" lang="id-ID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d-ID" sz="3600" spc="-1" strike="noStrike">
                <a:solidFill>
                  <a:srgbClr val="000000"/>
                </a:solidFill>
                <a:latin typeface="Trebuchet MS"/>
              </a:rPr>
              <a:t>KESIMPULAN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Berdasarkan hasil penelitian yang telah dilakukan dan pembahasan yang telah di uraikan sebelumnya, maka dapat ditarik suatu kesimpulan bahwa 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Dapat diketahui cara merancang sebuah aplikasi untuk klasifikasi status ekonomi dengan menggunakan metode KNN.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Aplikasi yang dirancang dapat di implementasikan untuk klasifikasi status ekonomi masyarakat. Hal ini dibuktikan dengan hasil pengujian yang dilakukan dengan metode </a:t>
            </a:r>
            <a:r>
              <a:rPr b="0" i="1" lang="en-US" sz="1700" spc="-1" strike="noStrike">
                <a:solidFill>
                  <a:srgbClr val="000000"/>
                </a:solidFill>
                <a:latin typeface="Trebuchet MS"/>
              </a:rPr>
              <a:t>White Box Testing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dan </a:t>
            </a:r>
            <a:r>
              <a:rPr b="0" i="1" lang="en-US" sz="1700" spc="-1" strike="noStrike">
                <a:solidFill>
                  <a:srgbClr val="000000"/>
                </a:solidFill>
                <a:latin typeface="Trebuchet MS"/>
              </a:rPr>
              <a:t>Bases Path Testing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yang menghasilkan nilai V(G) = CC, sehingga didapat bahwa logika </a:t>
            </a:r>
            <a:r>
              <a:rPr b="0" i="1" lang="en-US" sz="1700" spc="-1" strike="noStrike">
                <a:solidFill>
                  <a:srgbClr val="000000"/>
                </a:solidFill>
                <a:latin typeface="Trebuchet MS"/>
              </a:rPr>
              <a:t>flowchart 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benar. penelitian dengan menggunakan metode </a:t>
            </a:r>
            <a:r>
              <a:rPr b="0" i="1" lang="en-US" sz="1700" spc="-1" strike="noStrike">
                <a:solidFill>
                  <a:srgbClr val="000000"/>
                </a:solidFill>
                <a:latin typeface="Trebuchet MS"/>
              </a:rPr>
              <a:t>k-Nearest Neigboar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memberikan hasil akurasi yang lebih baik dengan menggunakan 318 Dataset dengan jumlah data training 191 dan data testing 127 dan validasi 40% dengan nilai K=3 menghasilkan nilai RMSE = 0,145%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	</a:t>
            </a:r>
            <a:r>
              <a:rPr b="0" lang="id-ID" sz="3600" spc="-1" strike="noStrike">
                <a:solidFill>
                  <a:srgbClr val="000000"/>
                </a:solidFill>
                <a:latin typeface="Trebuchet MS"/>
              </a:rPr>
              <a:t>SARAN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Setelah melakukan </a:t>
            </a:r>
            <a:r>
              <a:rPr b="0" lang="id-ID" sz="1900" spc="-1" strike="noStrike">
                <a:solidFill>
                  <a:srgbClr val="000000"/>
                </a:solidFill>
                <a:latin typeface="Trebuchet MS"/>
              </a:rPr>
              <a:t>p</a:t>
            </a: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enelitian dan pembuatan aplikasi untuk klasifikasi status ekonomi masyarakat dengan menggunakan metode KNN, ada beberapa saran yang perlu diperhatikan untuk mencapai tujuan yang diharapkan, yaitu sebagai berikut :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Untuk penelitian selanjutnya dengan melihat salah satu kelemahan dari algoritma </a:t>
            </a:r>
            <a:r>
              <a:rPr b="0" i="1" lang="en-US" sz="1900" spc="-1" strike="noStrike">
                <a:solidFill>
                  <a:srgbClr val="000000"/>
                </a:solidFill>
                <a:latin typeface="Trebuchet MS"/>
              </a:rPr>
              <a:t>k</a:t>
            </a: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-NN yaitu </a:t>
            </a:r>
            <a:r>
              <a:rPr b="0" lang="id-ID" sz="1900" spc="-1" strike="noStrike">
                <a:solidFill>
                  <a:srgbClr val="000000"/>
                </a:solidFill>
                <a:latin typeface="Trebuchet MS"/>
              </a:rPr>
              <a:t>perlu menentukan nilai dari parameter </a:t>
            </a:r>
            <a:r>
              <a:rPr b="0" i="1" lang="en-US" sz="1900" spc="-1" strike="noStrike">
                <a:solidFill>
                  <a:srgbClr val="000000"/>
                </a:solidFill>
                <a:latin typeface="Trebuchet MS"/>
              </a:rPr>
              <a:t>k</a:t>
            </a:r>
            <a:r>
              <a:rPr b="0" lang="id-ID" sz="1900" spc="-1" strike="noStrike">
                <a:solidFill>
                  <a:srgbClr val="000000"/>
                </a:solidFill>
                <a:latin typeface="Trebuchet MS"/>
              </a:rPr>
              <a:t> (jumlah dari tetangga terdekat)</a:t>
            </a: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 disarankan melakukan penggabungan metode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Perlu dilakukan bimbingan teknis dalam penggunaan aplikasi untuk klasifikasi status ekonomi masyarakat dengan menggunakan metode KNN</a:t>
            </a:r>
            <a:r>
              <a:rPr b="0" lang="id-ID" sz="19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Trebuchet MS"/>
              </a:rPr>
              <a:t>TERIMA KASIH</a:t>
            </a:r>
            <a:endParaRPr b="0" lang="en-US" sz="4000" spc="-1" strike="noStrike">
              <a:solidFill>
                <a:srgbClr val="a5b592"/>
              </a:solidFill>
              <a:latin typeface="Trebuchet MS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ZamalArsyad</cp:lastModifiedBy>
  <dcterms:modified xsi:type="dcterms:W3CDTF">2017-05-02T21:38:44Z</dcterms:modified>
  <cp:revision>727</cp:revision>
  <dc:subject/>
  <dc:title>Diapositiva 1</dc:title>
</cp:coreProperties>
</file>